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7C6-F861-4959-8449-AE758615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042-9839-4E6B-A4DD-E16D3BD7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307E1-C367-4A6F-8433-2CF5BCA1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6AFD-B8A0-423E-805F-8528B99D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886FE-40BF-4365-9AFE-A92D3C7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02C8D-DC0B-4348-A927-AC0DB6D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4294C-B9D7-4E0A-8AD4-68D7404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458E8-B9FB-40D7-A9D2-B14CAAD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F8C6E-6BB6-42F3-B9CD-96F13601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EFA8-6701-4A52-AF1F-448402AD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17DAB-B985-4A42-8281-51F05C6B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E9A7E-00DF-42FD-A987-33CB8D4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0D5-8B7D-48B8-86B2-43EACFDF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4AB19-D3D2-43B4-BABC-B184F12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5231-35E6-4A49-A791-3ED05854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6F88F-5F8C-4106-8ABD-B32FFB62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C04FC-EB58-447A-9EC3-002AF41C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00AFE-F17C-4FAE-BD54-B1BC4CA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13DCE-7A13-4104-9D6F-926A76C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F4D9-2C0E-4EA6-ADA2-D9DC348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5AE42-93F6-4D0A-B4F3-1BA8000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3D76-1F69-4543-81B9-2B6D7A4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2957F-31D4-43C8-A5C3-10A1612C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80A-640B-4E58-B289-D730B6FE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EAF2D-A205-40CB-8586-9A6A93E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92E6-1044-4BC5-B301-CD215AD6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E4F11-7351-4733-995A-862D7B9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ACCE8-BDE5-4C57-BCAE-271B14C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81699-CD8E-4259-99F0-88DFE98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DB775-9AC6-4350-9A23-76491C3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AED2-4F77-4082-9257-FFEF000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3935E-F9C6-438B-BAE5-11D3E31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BE5C5-4705-4FA2-9E2D-2AF8401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909B0-50F5-46D6-9E9C-83F8552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6F3D-9BBE-4C67-A0A7-B1D91483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1705F-5122-46D4-A342-3D785705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B4F3-A94D-44E1-A2A7-39D3B49E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33F0-8AA7-44FA-8528-4C27E57B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E45E2-4093-48CC-B8B7-85CE631B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BEFE6-13AB-45F8-B04E-982101AA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36B8F-8ECD-438C-943E-1A251A7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DEEC1-7451-42F5-A2FE-F01B3B94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1273B-F649-4A4C-A60D-B4CAF19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E654-ADD8-4ADA-B962-2BC6A5F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FD54D-F7B2-4B30-8360-551A8B7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B4A0-5DC0-4FFA-B9E4-4BB83D8D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3A970-4445-410C-841B-07A8EB3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5F856-88CD-4294-BDD1-002A0492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D4445-A049-407F-8214-1B27528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52D86-4244-4E31-B73B-574ACEB7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C190A-5267-44F9-B829-FAA62E2F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13CA-F049-4AFB-A170-18B2218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47F-4136-43C8-9863-140E0B35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CFC1-B6CB-4C7B-B190-612C588B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68E-56C3-4B93-B2FD-DC956B7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714-4D3D-4B15-A337-5F73186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5AE-BAA7-4BA7-A389-46E75331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89B-BC49-4E8B-A555-7AF035C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F8BC-1EBA-4ECC-8189-655F2D8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5CE9-D360-4598-81EA-848C8D1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16F3-5C90-41F5-ABC4-8F123DA0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1B9A-C56E-4B84-BEA2-A0EA5C49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D1D5-DA63-42E5-BBC8-938DBF22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3155-DF10-44E3-BDDE-27E32AE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F819-421F-44C8-AE00-0ABF6DB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F426-027F-4EC9-9023-273610E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25CF-B073-4A07-A701-323C05B0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3E2-8C1F-4F76-945F-B6DDFDA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A72F-B7DB-471B-85C2-4596E45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3B19-1878-44FD-BF05-8E934D1B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CC4F-A96B-400D-926F-165AE22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837F-4DB8-4149-BE2E-AB9F610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042E-820B-4134-85A1-050C72BD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1A58-2274-4A5A-A0EC-F7036FC4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E646-2A22-4853-9FFC-4083C6D4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05B1-8089-4E9A-AB49-3C53F0E1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93A4-1331-44D5-B6B4-DE2B767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8E42-6465-4CD8-816F-E629AD8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A49-08D1-4B15-AEBE-02ACF3A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3D67-839B-4EA5-A73D-FD709D5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CE49-5753-4466-84CF-6FFAEFC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0E3B-B498-4365-82E6-3A2B462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6F7B-5868-434F-83BC-2D3A616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4017-8BD7-4E51-8CF2-A1CCCA8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C7C7-6F00-4BA6-B958-7212D61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CD7D-2B1D-4D98-A178-961779BC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2FFD-2F19-4AF3-B27E-168649BD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B7C4-721A-41AD-B541-79F78F8C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98E6-1428-43F7-A635-7ED721FE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86F-27DC-419A-B0F9-F424F49E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1D0F-0750-4853-B916-E44BCB5C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4DD6-B932-464A-9548-2256062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D35A-1FE1-4E7C-9750-1915C5B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E01C-21C7-4BA4-BA22-AADECEF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F7B4-376D-4114-9B11-CF9BBD34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1044-909D-4A1B-9032-EB0C9C7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08FC-0792-4414-8E7B-0BEC705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CDB1-59FA-4CE2-B724-A9E8314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BB603-AD90-4F75-A7AD-E963C7B5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37BD-ED95-4CA1-84F2-F4A2DDBC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647-BE66-48AB-B0B2-27339A3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63B5-F905-43BA-800A-F71A1463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ED2A-B5A3-43A3-8136-3D9C00B8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6F8C-690C-42DC-ADFB-B707960C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7E9B-4729-4A31-92A5-C1A573CF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79C0-EAFE-4401-BFC2-5CF3E57A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95763-A274-4938-AF27-BCA826D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9AE8E-0240-411F-BF40-315D773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751A-C46D-4C23-ACFA-BF67D94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1010C-1B3F-4C6C-A495-7BAD9FC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B005-71E7-4623-85F9-3217B76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7F5-E662-44D9-9A8C-5C95ECA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38AD-DDC7-4DDB-AC93-F241B97B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7B15-A830-4C01-A5FB-B4B0D36C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075E-4C5B-42D9-A9A9-BC946E59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B779-9404-4F9D-AA77-58C476A1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3D5E-45EA-40B0-87AF-A66A7CAC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CE277-EFFF-46C3-973E-AF459F42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CBF6-C839-4740-A861-1111FE0D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A2F6-3C5D-4F11-A192-96B2C761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904FA-0C29-4267-A6B8-8CE94DD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C0EE-F679-4D1B-A6B9-129253C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9C3-27BE-488B-9B81-26F2040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A10F-9570-461B-A5A0-639A0DA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3926C-A595-4663-894F-82EBCFF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AA67-3CAF-46E7-8658-E904A0B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B15D-C71F-4028-974C-BFA4C7B9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7BCB-9111-49D5-95F2-EF9743D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F380-222B-4603-9917-B9D0A0B8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96405-696A-443D-8521-3475E8A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081A-3645-4789-8A3A-4AFF78A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3199B-9C2A-4D33-8B55-5DE01AF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B55E-354C-4A64-836B-E238415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92A-6830-4FF3-992E-DA80932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A7E6-3091-4FD2-B2D6-954E22E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8716D-4BD3-4563-9F33-0460447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718EE-7C0F-45C3-8B92-D1DDD55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59E0-18CF-4E68-81F5-6F54F4B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B2AF-D36B-45A1-8C26-EADC299F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BCA6-C380-4071-934D-8F866F4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270A-AD21-460E-A3B2-7E07000F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7582B-B6E7-4A58-9D9C-C3FAAC0F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E1DD1-58A6-42E1-A12D-1D92E5B2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BD0F-4DBE-4C84-9042-AE73AAA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07E-1D85-49BC-BCA3-6107D6C110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CB2-DF5A-48C2-9CAD-28BD6F2544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568-0590-4DB4-AE9F-CA39EE9FE8E5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C2E-80DA-48C1-AFB5-9917B7E0EB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D006-20F0-4DDF-9C3B-FA8403D9BE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62CE-D89E-4345-8DF0-4203DE6B9A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27BF-E637-4E9F-B857-B75D4055CC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EF4-6844-404F-9BB8-F6A25FA1F4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634-F082-4313-BF62-F8047DBF9C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8504-DC76-4251-BFE2-9FEE4D0D23B4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B91-B31F-4366-B719-4A9E63BEC0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DDD6-E966-4404-9833-FE1FFC1379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" descr=""/>
          <p:cNvPicPr/>
          <p:nvPr/>
        </p:nvPicPr>
        <p:blipFill>
          <a:blip r:embed="rId1"/>
          <a:stretch/>
        </p:blipFill>
        <p:spPr>
          <a:xfrm>
            <a:off x="533520" y="368280"/>
            <a:ext cx="8305560" cy="6114960"/>
          </a:xfrm>
          <a:prstGeom prst="rect">
            <a:avLst/>
          </a:prstGeom>
          <a:ln w="25560">
            <a:solidFill>
              <a:srgbClr val="f96a1b"/>
            </a:solidFill>
            <a:miter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Your age will greatly influence your values.  Different people and things influence you at different ag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9480" y="2133360"/>
            <a:ext cx="7521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1-7 --- parent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8-13 --- teachers, heroes (sports, rocks, TV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14-20 --- peers (values because of peers or peers because of values?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21+ your values are established, but you may test your values from time to time</a:t>
            </a: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cision making mode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ve thought to the probl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iew your choi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aluate the consequences of each choic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sess (go over) and choose your best choi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nk it over afterward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rouble ru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22240" y="1100160"/>
            <a:ext cx="752184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ow do you determine when you can get in troubl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sk yourself the following key questions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s it against the law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uld someone in authority get mad and I will get penalized.  (Financially or other punitive measure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uld it possible get someone else in trouble or even worst hurt someon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s it just simply against my values and what my family has taught m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90280" y="2232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fusal Skil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te your position, truthfull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uggest alternativ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nd your ground be firm, don</a:t>
            </a:r>
            <a:r>
              <a:rPr b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 allow anyone to manipulate you or persuade you to go against your valu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ossible refusal lines could be the following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Blame someone el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Ignore the reque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ay NO and mean it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hange the subjec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uggest something el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dbbd71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If you stand for nothing.</a:t>
            </a:r>
            <a:br>
              <a:rPr sz="6000"/>
            </a:b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  </a:t>
            </a:r>
            <a:br>
              <a:rPr sz="6000"/>
            </a:b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You fall for anything.</a:t>
            </a:r>
            <a:r>
              <a:rPr b="1" lang="ja-JP" sz="6000" spc="-1" strike="noStrike">
                <a:solidFill>
                  <a:srgbClr val="dbbd71"/>
                </a:solidFill>
                <a:latin typeface="Arial"/>
              </a:rPr>
              <a:t>”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s a value/values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25120" y="1142640"/>
            <a:ext cx="75214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are defined a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ULES, GUIDEINES, GOALS, BELIEFS </a:t>
            </a:r>
            <a:r>
              <a:rPr b="1" lang="is-IS" sz="28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Our values affect our decisions and behavior.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define what is of worth, what is beneficial, and what is harmfu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are standards to guide your actions, judgments, and attitude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5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You have been given a check for $10,00.00 to do whatever you like with it.  What would you do with it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hare with a partner what you would do with i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iscuss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What you spend the money on has everything to do with what you value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What things did you do during the past week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187720"/>
            <a:ext cx="8229600" cy="25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What you choose to do with your time also has everything to do with what you value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21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do values help us? Why are they Important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160" y="1828440"/>
            <a:ext cx="7521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y help you decide Right from Wrong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ood vs. Bad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rale vs. Immora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mportant vs. Unimportan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3276720"/>
            <a:ext cx="3881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mmaturity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nclear val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rift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ligh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ncertai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patheti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181120" y="3276360"/>
            <a:ext cx="35053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aturi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ear val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fe of purpo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eaning and dire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ypocrite – One who subscribes to one set of values, and does another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mmaturity  - One who has not identified his values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22240" y="2209320"/>
            <a:ext cx="7521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give direction and consistency to behavior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help you know what to and not to make time for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establish a relationship between you and the world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set the direction for on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 life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533520" y="685800"/>
            <a:ext cx="685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: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 – Goals – Behavior – Self-val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533520" y="9907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our home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chool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ociety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riend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V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hurch,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usic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ok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milie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95320" y="990360"/>
            <a:ext cx="4033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ulture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employers, government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ime-period in which you were raised (7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anti-establishment, peace, individuality.  8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money, prestige, do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 get caught, etc.  9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earth, green peace, health and fitness), etc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Where do we get value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ostly from our environ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ff</cp:lastModifiedBy>
  <dcterms:modified xsi:type="dcterms:W3CDTF">2016-09-08T01:03:39Z</dcterms:modified>
  <cp:revision>14</cp:revision>
  <dc:subject/>
  <dc:title>PowerPoint Presentation</dc:title>
</cp:coreProperties>
</file>